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115-D601-416C-B68B-4E82106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4ED-0DB3-43F2-9B95-272456C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72E-FD9C-4F7C-BA83-940EB54A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409-47E5-4821-80C8-43E346B7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D65-21E4-4106-BF1A-14E5298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241-6E6A-4481-839F-06D2679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BD7-6291-4A57-99CB-AA61FE83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1B2-7DFA-4635-89BD-E1017B2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46E-0EBF-4A1A-964B-E5E945C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902-3306-4B0B-9FB1-85DFAE1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64B-E41E-4F01-8560-C09D384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B0B-66DC-4D1F-9E93-8706DCA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DFC-EBF8-41AC-B177-122772AA3BD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ettlement Functio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can be grouped into a number of headings, such as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residenti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creation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tai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entertainment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dustri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ome settlements have one predominant func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was particularly thecase when settlements were first establish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ome towns performed important defensive functions, others were ports and others were important route centres for further exploration of a country (such as the gateway cities of Canada e.g. Calgary and Edmonton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ulti-Func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ttlements now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ti-functi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means that they perform a range of different functions, however some may be more important than others to a particular settl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a tourist town will perform all sorts of functions, but its main ones are concentrated towards the tour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ettlements around the world have found that their functions have had to change over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uch example is that of small farming villages finding that their residents are moving out to find jobs in the c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ves the village empty, apart from the older popul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llage then may become a retirement centre, or commuters may move in and it could become a commuter vill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good examples of the changing functions of a settlement can be seen in Benidorm (Spain) and the South Wales mining tow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0:00:48Z</dcterms:created>
  <dc:creator>Dell_02</dc:creator>
  <dc:description/>
  <dc:language>en-US</dc:language>
  <cp:lastModifiedBy>Dell_02</cp:lastModifiedBy>
  <dcterms:modified xsi:type="dcterms:W3CDTF">2011-01-26T00:41:38Z</dcterms:modified>
  <cp:revision>2</cp:revision>
  <dc:subject/>
  <dc:title>Presentación de PowerPoint</dc:title>
</cp:coreProperties>
</file>